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E192-B64B-4BB4-8481-A56CE919E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852480" y="744480"/>
            <a:ext cx="4964040" cy="3722760"/>
          </a:xfrm>
          <a:prstGeom prst="rect">
            <a:avLst/>
          </a:prstGeom>
          <a:ln w="0">
            <a:noFill/>
          </a:ln>
        </p:spPr>
      </p:sp>
      <p:sp>
        <p:nvSpPr>
          <p:cNvPr id="58"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ris does not discriminate and maybe that’s the point – the policemen are mocked as much as the jihad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urring of boundaries (e.g. Omar’s religious br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58792-F704-4CDC-9C68-1C6D3104B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F11E-B8A0-41B5-B3A2-5DC4BCAF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2CC6A-E6EA-4F6B-AB2C-E18E6E673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B7D5C-03F6-4A14-9E7C-C2EBDF9D5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306A-EAD8-40A2-9916-DE5C884B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A436-449A-4FD8-A294-2A0E292A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8418-F405-45FA-B5F6-9F11FA5A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47E69-54B2-4BE4-A994-011B1A58E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75B0-D984-4E8B-A781-947E6C39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7528-D1AE-4FD6-BE79-9358EB6C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4DC1-9237-4738-ABFE-DDCC4FB9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08A4-5952-46B8-B06B-D883FB0AE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9F64-A364-42DD-BB37-4906ECC16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_nvfQw8UCDE"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rrier Attack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009999"/>
                </a:solidFill>
                <a:uFillTx/>
                <a:latin typeface="Arial"/>
                <a:hlinkClick r:id="rId1"/>
              </a:rPr>
              <a:t>http://www.youtube.com/watch?v=_nvfQw8UCDE</a:t>
            </a: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ur Lion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ed by Chris Morris, infamous for biting satires and spoofs </a:t>
            </a:r>
            <a:r>
              <a:rPr b="0" i="1" lang="en-GB" sz="2000" spc="-1" strike="noStrike">
                <a:solidFill>
                  <a:srgbClr val="000000"/>
                </a:solidFill>
                <a:latin typeface="Arial"/>
              </a:rPr>
              <a:t>The Day Today</a:t>
            </a:r>
            <a:r>
              <a:rPr b="0" lang="en-GB" sz="2000" spc="-1" strike="noStrike">
                <a:solidFill>
                  <a:srgbClr val="000000"/>
                </a:solidFill>
                <a:latin typeface="Arial"/>
              </a:rPr>
              <a:t> and </a:t>
            </a:r>
            <a:r>
              <a:rPr b="0" i="1" lang="en-GB" sz="2000" spc="-1" strike="noStrike">
                <a:solidFill>
                  <a:srgbClr val="000000"/>
                </a:solidFill>
                <a:latin typeface="Arial"/>
              </a:rPr>
              <a:t>Brass Eye</a:t>
            </a:r>
            <a:r>
              <a:rPr b="0" lang="en-GB"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w-budget independent film, grossing about $4.5m</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s Riz Ahmed (consider the point we have discussed about Archie Panjabi and the small pool of Asian actors) as one of a group of inept suicide bombers from Sheffield in northern England.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arcical black comedy film that, interestingly, has also been critically acclaimed for raising many serious issues in relation to British Muslims (although some reviewers did not like i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in contrast to </a:t>
            </a:r>
            <a:r>
              <a:rPr b="0" i="1" lang="en-GB" sz="2000" spc="-1" strike="noStrike">
                <a:solidFill>
                  <a:srgbClr val="000000"/>
                </a:solidFill>
                <a:latin typeface="Arial"/>
              </a:rPr>
              <a:t>West is West</a:t>
            </a:r>
            <a:r>
              <a:rPr b="0" lang="en-GB" sz="2000" spc="-1" strike="noStrike">
                <a:solidFill>
                  <a:srgbClr val="000000"/>
                </a:solidFill>
                <a:latin typeface="Arial"/>
              </a:rPr>
              <a:t> – think about the review of it we read describing it as a “lightweight” film.</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learly provokes comparison with the 7/7 London bombings and has hit on raw nerves – do you think it could have been made a few years ago (i.e. closer to 2005)?</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you think there is any tension between melodrama and comedy – are there any points in the film where you feel uncomfortable laughing? Think about the notion of the “hybrid genr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 ending what you would expect for a “come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notes on the representation of the main characters…are they “culturally authentic”?</a:t>
            </a:r>
            <a:endParaRPr b="0" lang="en-US" sz="3200" spc="-1" strike="noStrike">
              <a:solidFill>
                <a:srgbClr val="000000"/>
              </a:solidFill>
              <a:latin typeface="Arial"/>
            </a:endParaRPr>
          </a:p>
        </p:txBody>
      </p:sp>
      <p:sp>
        <p:nvSpPr>
          <p:cNvPr id="53" name="PlaceHolder 2"/>
          <p:cNvSpPr>
            <a:spLocks noGrp="1"/>
          </p:cNvSpPr>
          <p:nvPr>
            <p:ph/>
          </p:nvPr>
        </p:nvSpPr>
        <p:spPr>
          <a:xfrm>
            <a:off x="457200" y="1855800"/>
            <a:ext cx="8229600" cy="481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ma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j</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ss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r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ss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n-Asian characters (e.g. the police and Mat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mar’s brother (why is he targeted by the po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Themes</a:t>
            </a:r>
            <a:endParaRPr b="0" lang="en-US" sz="4400" spc="-1" strike="noStrike">
              <a:solidFill>
                <a:srgbClr val="000000"/>
              </a:solidFill>
              <a:latin typeface="Arial"/>
            </a:endParaRPr>
          </a:p>
        </p:txBody>
      </p:sp>
      <p:sp>
        <p:nvSpPr>
          <p:cNvPr id="55" name="PlaceHolder 2"/>
          <p:cNvSpPr>
            <a:spLocks noGrp="1"/>
          </p:cNvSpPr>
          <p:nvPr>
            <p:ph type="subTitle"/>
          </p:nvPr>
        </p:nvSpPr>
        <p:spPr>
          <a:xfrm>
            <a:off x="250920" y="1557360"/>
            <a:ext cx="8424720" cy="468000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errorism – Parallels with real life (Charles de Menezes)? Jihad, extremis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lam – is it presented positively? Overly reliant on religious text to intellectualise, patriarcha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ti western world (“capitalism” and “consumerism”) – quote Omar’s ran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olice state – authority figures are questioned, irony of Omar working for government surveillanc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amily – importance of to Omar</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hallenging of audience (and police) assumptions about who a terrorist is (see police raids on Omar’s brothers fl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22" dur="500"/>
                                        <p:tgtEl>
                                          <p:spTgt spid="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27" dur="500"/>
                                        <p:tgtEl>
                                          <p:spTgt spid="5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32"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ris's basic strategy is to undermine and undercut. The jihadis are hopelessly confused and contradictory, caught between their assimilated lifestyle and righteous ideological fire. Omar, for example, can't stop mocking his far more religious, far more peaceable, brother. Fessel, a main vehicle for the doofus comedy, buys bomb-making material with a voice disguised as his own. (Plus he forgets about his beard when he presents himself as a "woman".) Omar and Waj bond by asserting they would happily kill the other if necessary. Barry is constantly trying to insert himself into a group trip to the Middle East, even though it is clear he is not wanted. And when the authorities finally track the group down, Morris doesn't spare them his withering eye: the cops are as incompetent as everyone else, despite their veneer of technological sophist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angely enough, Four Lions reminded me of Dad's Army, with its blend of buffoonery and cantankerousness, petty power struggles and blurring of the lines between home and combat life. Perhaps it is also indicative of how essentially unadventurous Four Lions is, cinematically speaking; only in the final section, when the bombers run around in hysterically inappropriate fancy dress, does the film approach the demented inspiration with which we associate Morris. Still, in its very existence, Morris has hit on the rawest of nerves, and for that he deserves adm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1:43:03Z</dcterms:created>
  <dc:creator>maninder singh</dc:creator>
  <dc:description/>
  <dc:language>en-US</dc:language>
  <cp:lastModifiedBy>maninder singh</cp:lastModifiedBy>
  <dcterms:modified xsi:type="dcterms:W3CDTF">2011-05-04T16:50:26Z</dcterms:modified>
  <cp:revision>11</cp:revision>
  <dc:subject/>
  <dc:title>Four Lions</dc:title>
</cp:coreProperties>
</file>